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1FDE-E2BB-47C0-9C7B-7E69686A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E4FA-92A2-422A-BD05-D5F63CA4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E92C-0F6A-45CE-A504-EAAF95E7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ACCE-710E-43E8-8D20-D75F92D06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5246-627D-4F56-ABE2-46E22539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054C-E464-4868-A184-4FD47EBD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94BE-B9A6-4545-8494-B8C60E79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7C01-742B-4E93-9EA0-C8272B87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0345-685A-408D-8667-D2314903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CA17-4512-4D8A-A82C-9CB97159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E1EF-CF1C-4543-9385-ED64921E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E548-AAA1-47D5-9557-E3C8639C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AB2F1C-E0D0-44C4-924C-F6CA75B695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806D68-BDD7-4ED0-A101-DBF816B99E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acknowledgment-slide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2T08:13:10Z</dcterms:created>
  <dc:creator>nevermind</dc:creator>
  <dc:description/>
  <dc:language>en-US</dc:language>
  <cp:lastModifiedBy>nevermind</cp:lastModifiedBy>
  <dcterms:modified xsi:type="dcterms:W3CDTF">2012-07-02T08:14:51Z</dcterms:modified>
  <cp:revision>2</cp:revision>
  <dc:subject/>
  <dc:title>Slide 1</dc:title>
</cp:coreProperties>
</file>