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758-D16F-48D2-9DDF-7729BBE8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46C-B179-4CBD-ACD8-D21C5D07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E4C-5EB2-4EB0-B894-CCC00150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1FF-E3EE-439C-85E8-30897CBB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898-DA84-4007-8912-CA2DFF52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4F2-B8DB-4A88-AA08-E665172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3BD-E2A0-4FDF-A2ED-FAC3FAE1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4B6-C8B9-4281-B45F-381D5AA6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D7A-0B0A-471E-954D-4DC6CAD9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2A3-D10E-4514-A040-BAA352E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A8A-1945-4C30-B84C-9E5CFBC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B9A-95BC-4F63-8555-93915127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6F4C4-9959-489D-A78B-4BC4D5D4A1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0F55B-F726-45EB-BD1F-FB776A409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acknowledgment-slid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8:13:10Z</dcterms:created>
  <dc:creator>nevermind</dc:creator>
  <dc:description/>
  <dc:language>en-US</dc:language>
  <cp:lastModifiedBy>nevermind</cp:lastModifiedBy>
  <dcterms:modified xsi:type="dcterms:W3CDTF">2012-07-02T08:14:51Z</dcterms:modified>
  <cp:revision>2</cp:revision>
  <dc:subject/>
  <dc:title>Slide 1</dc:title>
</cp:coreProperties>
</file>